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47A1-A3F3-4201-8601-6EB92569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C10B-002A-40C8-920F-1B1E8FFF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4551-3CCA-4050-9285-24E77FA7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64BB-915A-4E8A-A429-C2701DA6D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554A-67BD-4F0D-81D9-954B9C31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7361-5BCC-4877-9244-78198A28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2CB0-020D-4F27-AD76-B090F385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13C2-52E0-48EB-A7C9-52C38952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E07E-B036-42AB-ADBB-DC96189A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5192-2007-42F1-9D13-550F883E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905C-B1AF-4AF8-B51F-21DF7701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DFC9-9A56-4797-8F19-1540F386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EA35-F117-4F1E-8C12-DC2666379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cultural Austr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by Z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10044000" cy="6816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35280" y="475560"/>
            <a:ext cx="59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Amo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young woman from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dane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ckgrou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4122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has arrived on her own and her families are still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ugee camps in Keny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7300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has never lived in a city, but has caught on quickly working ou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transpor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11600" y="4149000"/>
            <a:ext cx="45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wants to learn how the system wor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3200" y="4723560"/>
            <a:ext cx="89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wants to keep improving her English and doesn’t know what work she wants to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30960" y="6339240"/>
            <a:ext cx="900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he feel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solat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isn’t actively involved with the Sudanese community though she would like to b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MP900180172[1]" descr=""/>
          <p:cNvPicPr/>
          <p:nvPr/>
        </p:nvPicPr>
        <p:blipFill>
          <a:blip r:embed="rId2"/>
          <a:stretch/>
        </p:blipFill>
        <p:spPr>
          <a:xfrm>
            <a:off x="8675640" y="5929200"/>
            <a:ext cx="1419120" cy="928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19960" y="2997360"/>
            <a:ext cx="31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is 22 and lives by he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14611" t="0" r="13014" b="0"/>
          <a:stretch/>
        </p:blipFill>
        <p:spPr>
          <a:xfrm>
            <a:off x="7885080" y="0"/>
            <a:ext cx="2120760" cy="147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08000" cy="12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556000" y="1916280"/>
            <a:ext cx="1184040" cy="887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395280" y="5013360"/>
            <a:ext cx="1523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1:53:06Z</dcterms:created>
  <dc:creator>RAC</dc:creator>
  <dc:description/>
  <dc:language>en-US</dc:language>
  <cp:lastModifiedBy>RAC</cp:lastModifiedBy>
  <dcterms:modified xsi:type="dcterms:W3CDTF">2010-09-09T02:57:26Z</dcterms:modified>
  <cp:revision>2</cp:revision>
  <dc:subject/>
  <dc:title>Multicultural Australia</dc:title>
</cp:coreProperties>
</file>